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377-8FC9-4A31-9E32-D8BB016D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4A3-25DF-4908-B214-2B3758A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E82-6671-4AFE-874A-DF5C6FF6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E8F-9C94-4170-BA97-631F90D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201-55BD-40E2-ACBD-1B3D718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E02-3C7A-4B74-AC7A-E173491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1C6-77A0-42EF-821E-6D4186A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A04-EF70-49F4-84F9-CCDEB35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8C4-4D58-489C-873B-2E7D25F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DF4-96F5-4757-8C42-54F83FB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E53-234F-42EC-B623-5CD7553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AFC-1A6C-42B9-BD9A-0353FEB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FE0-FBA8-428A-B771-211E5E21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 helper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reg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finition of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-positive, alpha-beta 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6Z</dcterms:modified>
  <cp:revision>9</cp:revision>
  <dc:subject/>
  <dc:title>The Cell Ontology</dc:title>
</cp:coreProperties>
</file>